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603-CC09-4748-B202-67F3B1DD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D85-D94D-4C35-8159-818FE00D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684-1869-4F79-81B1-F496E3A3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DB3-1F34-4383-A394-E2F7A86A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B17-5B27-416A-B8C1-DB620A42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3D68-BF4A-4658-9111-B132C195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137E-1980-42F0-890B-1E4B58C1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5CF-13B5-4CBE-85AF-27C55732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EF3-59D4-4B47-9501-D679917D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C69-E03F-4882-A891-9AB9CF7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3A8C-3F82-452C-BE28-9FA8BFCE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961-B428-444B-82B7-4F22CAF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7F4A-AAF3-45C4-9E2C-60D3420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53D0-5168-47B9-B63B-1F8AF5D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36B9-31FD-4EBC-8746-9077B51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E996-DFEC-4CF0-9176-21C7DC36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E23-EA16-4001-990F-B61AFE2C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16B-6DE4-473F-9900-B70D94A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C73-FFBF-4042-B30B-6240E9F5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3C5-508E-49B8-A18E-22BBEB4B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9A6-AA2C-427C-9DF5-87CFBF4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B53-87C8-49BC-861A-86BB5BB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25D-477F-4FA1-9C02-B3D02E0F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642-5E85-4168-9C34-E11E1C0F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E269-D93D-4A0F-A1C4-E77E5A983D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62EB-BEC8-409E-B5E7-2F659AC3F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South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74320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76520" y="685800"/>
            <a:ext cx="5943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57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638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6840" y="24444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eveloping Open-Market Econo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jor exports: Petroleum, prec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tones, machinery, iron/ste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mports: Crude oil, fertiliz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litic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Federal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eligions: Hindu, Muslim, Christia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ikh, native/trib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anguages: Hindi, Bengali, English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ative/trib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.2 Billion (2</a:t>
            </a:r>
            <a:r>
              <a:rPr b="0" lang="en-US" sz="1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in the Worl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India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ical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le under Mughal Empire (1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ritish colonial rule from Mid-1800’s to 1947 (indepen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fluence of East India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fficial end of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tinued through cultural tra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276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system of social stratification and social restriction that divided Indian society into hereditary groups called Jati’s. (4 groups; 1 exclusionary cas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though identified with Hindu society, not specific to the Hindu relig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,500 years of cultural tra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581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s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h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ow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st social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s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Comic Sans MS"/>
              </a:rPr>
              <a:t>Caste System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asts- outsiders below cast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et swee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oom clea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considered part of social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1:32:53Z</dcterms:created>
  <dc:creator>R. Barrios</dc:creator>
  <dc:description/>
  <dc:language>en-US</dc:language>
  <cp:lastModifiedBy>R. Barrios</cp:lastModifiedBy>
  <dcterms:modified xsi:type="dcterms:W3CDTF">2012-04-05T04:08:32Z</dcterms:modified>
  <cp:revision>4</cp:revision>
  <dc:subject/>
  <dc:title>South Asia</dc:title>
</cp:coreProperties>
</file>